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C2C-8C09-4B74-BB25-4BC31204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FCE-3219-450D-A83F-ADCC5367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F08-DA8B-4204-AF2A-9A163C04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BF6-8882-491E-9997-5F1D78FB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FDB-2AAD-4B50-B308-D7CB1A25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818-594E-42EC-A872-E1669286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07F-4334-48CC-B56E-C71613FF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AE2-9FE9-472D-8065-D23BE4C7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0C2-2E36-4D49-907A-3A6D6602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4D3-05CE-4F4C-AF0E-827C12DE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371-4F91-4AAA-B3D2-3DAD557C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503-2112-4E1E-ADF0-1E95A105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1914F-5B73-47AF-8D7E-B5AA750484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B5577-8368-4B4B-BF7E-9AED1E84E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What do meteorologist call a large body of air that has similar temperatures and moisture throughout it? 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1488b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3"/>
          <p:cNvSpPr/>
          <p:nvPr/>
        </p:nvSpPr>
        <p:spPr>
          <a:xfrm>
            <a:off x="0" y="3514680"/>
            <a:ext cx="9018720" cy="2311560"/>
          </a:xfrm>
          <a:prstGeom prst="pie">
            <a:avLst/>
          </a:pr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4"/>
          <p:cNvSpPr/>
          <p:nvPr/>
        </p:nvSpPr>
        <p:spPr>
          <a:xfrm>
            <a:off x="3092400" y="3727440"/>
            <a:ext cx="5967360" cy="406440"/>
          </a:xfrm>
          <a:prstGeom prst="pie">
            <a:avLst/>
          </a:pr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5"/>
          <p:cNvSpPr/>
          <p:nvPr/>
        </p:nvSpPr>
        <p:spPr>
          <a:xfrm>
            <a:off x="7502400" y="4470480"/>
            <a:ext cx="866880" cy="32076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66680" y="257040"/>
            <a:ext cx="215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166680" y="4791240"/>
            <a:ext cx="215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6727680" y="4943520"/>
            <a:ext cx="215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166680" y="2960640"/>
            <a:ext cx="215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5649840" y="3152880"/>
            <a:ext cx="21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Straight Arrow Connector 13" descr=""/>
          <p:cNvPicPr/>
          <p:nvPr/>
        </p:nvPicPr>
        <p:blipFill>
          <a:blip r:embed="rId1"/>
          <a:stretch/>
        </p:blipFill>
        <p:spPr>
          <a:xfrm>
            <a:off x="1238400" y="1785960"/>
            <a:ext cx="5808600" cy="439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14"/>
          <p:cNvSpPr/>
          <p:nvPr/>
        </p:nvSpPr>
        <p:spPr>
          <a:xfrm>
            <a:off x="3092400" y="1433520"/>
            <a:ext cx="255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a Bree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un 15"/>
          <p:cNvSpPr/>
          <p:nvPr/>
        </p:nvSpPr>
        <p:spPr>
          <a:xfrm>
            <a:off x="6991200" y="257040"/>
            <a:ext cx="1378080" cy="13338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3"/>
          <p:cNvSpPr/>
          <p:nvPr/>
        </p:nvSpPr>
        <p:spPr>
          <a:xfrm>
            <a:off x="0" y="3514680"/>
            <a:ext cx="9018720" cy="2311560"/>
          </a:xfrm>
          <a:prstGeom prst="pie">
            <a:avLst/>
          </a:pr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4"/>
          <p:cNvSpPr/>
          <p:nvPr/>
        </p:nvSpPr>
        <p:spPr>
          <a:xfrm>
            <a:off x="3092400" y="3727440"/>
            <a:ext cx="5967360" cy="406440"/>
          </a:xfrm>
          <a:prstGeom prst="pie">
            <a:avLst/>
          </a:pr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"/>
          <p:cNvSpPr/>
          <p:nvPr/>
        </p:nvSpPr>
        <p:spPr>
          <a:xfrm>
            <a:off x="7502400" y="4470480"/>
            <a:ext cx="866880" cy="32076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66680" y="257040"/>
            <a:ext cx="215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166680" y="4791240"/>
            <a:ext cx="215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6727680" y="4943520"/>
            <a:ext cx="215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166680" y="2960640"/>
            <a:ext cx="215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5649840" y="3152880"/>
            <a:ext cx="21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Straight Arrow Connector 13" descr=""/>
          <p:cNvPicPr/>
          <p:nvPr/>
        </p:nvPicPr>
        <p:blipFill>
          <a:blip r:embed="rId1"/>
          <a:stretch/>
        </p:blipFill>
        <p:spPr>
          <a:xfrm>
            <a:off x="884160" y="1938240"/>
            <a:ext cx="6832800" cy="439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14"/>
          <p:cNvSpPr/>
          <p:nvPr/>
        </p:nvSpPr>
        <p:spPr>
          <a:xfrm>
            <a:off x="3092400" y="1433520"/>
            <a:ext cx="255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 Bree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Moon 12"/>
          <p:cNvSpPr/>
          <p:nvPr/>
        </p:nvSpPr>
        <p:spPr>
          <a:xfrm flipH="1">
            <a:off x="7805160" y="474840"/>
            <a:ext cx="1076040" cy="13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. Which way do sea breezes mov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 What causes a sea breez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Where do air masses get their temperature?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ould you expect an air mass moving in from the Gulf of Mexico (a sea) to be moist or dry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51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Would you expect an air mass moving in from the Gulf of Mexico to be warm or cold?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15293" t="0" r="14413" b="0"/>
          <a:stretch/>
        </p:blipFill>
        <p:spPr>
          <a:xfrm>
            <a:off x="4968720" y="0"/>
            <a:ext cx="4175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ould you expect an air mass moving in from Canada (land) to be moist or dry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51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Would you expect an air mass moving in from Canada to be warm or cold?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15293" t="0" r="14413" b="0"/>
          <a:stretch/>
        </p:blipFill>
        <p:spPr>
          <a:xfrm>
            <a:off x="4968720" y="0"/>
            <a:ext cx="4175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Is land warmer in the day or at night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Why is water warmer at night?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After today, you will be able to explain where air masses get their temperature and moisture from and the effects of differences in temperature on wind near water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is a sea breeze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What causes a land breeze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3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Is this a sea breeze or a land breeze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517760" y="2730600"/>
            <a:ext cx="74293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is warmer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is colder in the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d is warmer in the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d is colder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4.7 Independent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redit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Draw a picture of a land or sea breeze.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4.7 Air Masses Class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ir m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029200" y="1219320"/>
            <a:ext cx="4114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Calibri"/>
              </a:rPr>
              <a:t>An air mass gets its temperature and moisture from the area over which it form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1417680"/>
            <a:ext cx="5087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1. Would you expect an air mass moving in from the Pacific Ocean to be moist or dry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2. Would you expect an air mass moving in from the Northern Pacific to be cold or warm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 Between Water and 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Calibri"/>
              </a:rPr>
              <a:t>Water and land absorb heat at different speeds.  As a result, land is warmer in the day than water, and water is warmer at night than land.  Because of these differences in temperature, there are differences in air pressure creating wind.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5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When is land warmer?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2. Why is there a difference in the temperatures of land and water?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3. What is the effect of the differences in air pressure between land and water?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37880" y="-170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ea Breez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47680" y="293760"/>
            <a:ext cx="5103720" cy="65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day, the sun heats the land, but the water remains cool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Sea breezes move from the sea to the lan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sea breeze.jpg"/>
          <p:cNvPicPr/>
          <p:nvPr/>
        </p:nvPicPr>
        <p:blipFill>
          <a:blip r:embed="rId1"/>
          <a:stretch/>
        </p:blipFill>
        <p:spPr>
          <a:xfrm>
            <a:off x="0" y="2050920"/>
            <a:ext cx="33814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LAND BREEZ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274320"/>
            <a:ext cx="403848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night, the land cools down but the water has finally gotten warm from earlier in the da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100" spc="-1" strike="noStrike" u="sng">
                <a:solidFill>
                  <a:srgbClr val="000000"/>
                </a:solidFill>
                <a:uFillTx/>
                <a:latin typeface="Calibri"/>
              </a:rPr>
              <a:t>Land breezes move from the land to the sea.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038480" y="4151160"/>
            <a:ext cx="48643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5:20:33Z</dcterms:created>
  <dc:creator>Caroline Roth</dc:creator>
  <dc:description/>
  <dc:language>en-US</dc:language>
  <cp:lastModifiedBy>Caroline Roth</cp:lastModifiedBy>
  <dcterms:modified xsi:type="dcterms:W3CDTF">2010-11-17T23:24:17Z</dcterms:modified>
  <cp:revision>5</cp:revision>
  <dc:subject/>
  <dc:title>Bellringer</dc:title>
</cp:coreProperties>
</file>